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B48-9D42-4452-B465-A74D2D16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7F1-33D5-4323-AB2C-54F70C0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3BA-1C16-4CF5-AA7A-CFFD4A29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6DB-4648-4A7E-A378-F8293809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D71-EBA6-41EB-A707-92296BA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3B3-05FD-4347-9248-44F60F23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ED46-041A-4A97-8FC9-441D9EAE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3EBB-BE88-4EE1-A29E-01704BF9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4DE-22BA-4E40-9F1A-F178E92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0EB-2EAA-4F30-810A-282B166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1A77-429F-4279-A592-171B3E07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8E0B-0B1A-41BF-8466-F8FFB92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BB1A-4125-4636-A6FD-FAC990D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9FC8-0B09-4C4A-9E14-14D72AF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A8D8-EAE3-48E9-A3D8-75B4046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2723-C32F-4EFD-BEDE-745F385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F4E-38B1-4826-B66C-43C72674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899-2CED-42CD-B270-36D4F0EC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460F-7BE0-4CDC-A5F1-5A8919F5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E0D5-FFDA-4787-BF21-09F37F0E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0D6-2A3C-4737-9DBD-62BE284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6DFC-54DC-476A-9B2A-20F9AD2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3983-6A4C-41F4-9D08-1C55DBD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A927-2ADB-475F-A291-C0FE891F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3B76-9DBF-4719-81E6-0E3AA556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9B0D-4214-4293-B3C4-280D5F7D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274A-81E8-4630-8190-DF76E14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20D4-5FD3-4D26-B2B0-1105D0B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9B2A-4C49-42DC-94D7-962ED7E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DFD0-A574-41BB-B3D6-5550A71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F83E-A566-4917-8543-18F6346B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C68-37A5-4F47-B456-195F8245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EF43-BC22-42D3-84C0-685B9D94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1E7F-D27B-4622-8A47-9D1D60BE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F45D-1021-4A32-A4CE-9A6A1EF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950B-D419-43D8-8412-8692B2ED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AF8B-89F3-44EE-8740-A396405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6807-208E-4CD4-A794-8AA86885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3190-A443-4DC2-8E5A-27492984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9918-0C30-4BC9-98F4-B51C723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5946-8E19-4C93-A732-65C430A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DC13-44F6-4299-9744-BF2B277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1AE-125D-416E-B4E7-FC3E06E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FA5D-C63C-4B61-A2B8-258975D5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385F-C490-4EDA-B033-CDEB98E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C808-D874-4664-94FA-114BC8E5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9EC-923F-489B-9411-278568E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AAA-92AD-428D-A6A1-33F9EAC4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BDDBED5-31FD-4B7B-80A5-FECF1EA0F54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F061367-FAD4-4A20-92F2-FBB7547088B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780B640-9289-41FC-9677-8BA09EE8EE4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6B3F692-95F6-4A46-99BD-D0CCA156907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8000"/>
          </a:bodyPr>
          <a:p>
            <a:pPr marL="236160" indent="-236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różnice pomiędzy resuscytacją osoby dorosłej i dziec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rzypadku resuscytacji osoby dorosłej rozpoczyna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d 30 uciśnięć klatki piersiowej, po których wykonuje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 oddechy ratunkowe, natomiast w przypadku dziecka rozpoczynamy od 5 wdechów, po których przechodzimy do sekwencji 30 uciśnięć – 2 wdechy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